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AE03-C3C8-48ED-850F-86DBA53E8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EA4C-D74C-4F40-97E1-99FAA4CA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470E-EA97-4AAE-8A13-C17A328A4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BFA9-3E47-4C1D-9804-093916588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55CBA-0B27-499C-9D0C-1B0798CE8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D56E8-E35F-4959-A7F9-6D1DF43C2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BE3DA-75CF-4912-8C94-F0AA4CE4E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66AA-9F19-4A7C-AF5F-FB58990B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29636-4617-4CBF-A538-C8D7D312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AE20D-5D4E-4637-8E4A-81EA96C8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4BEE5-E15D-4450-B862-A95F1EDF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649E-C91F-4E50-B78B-E7B0E411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6990-9D38-40F1-BEC5-0F8DB5A1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FE69-BFD0-49B2-8590-4D2B18B0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7F3A-284C-4C32-87EE-0F0333E7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F22C-9354-4F07-BC13-74965E65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19B53-7C6A-4A2C-AFF2-FA2EA73A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074-9C02-4D78-870D-E9F12860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618D-541A-4A99-A162-C2454F77F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CAED-9CF9-47C0-B5AF-D28AC7E7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382A-2675-409B-9DD6-9FAE0939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540AE-286F-48FE-B4E6-1A22C081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981-2458-4D4F-B489-C3D59465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F51D-E64F-42F6-A744-2A2D5CEE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5F0FE-66AC-4969-BDEA-DD3A55D10778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5FB7-491E-43D4-857C-AB3BE70D7066}" type="slidenum">
              <a:rPr b="0" lang="sr-Latn-C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6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75EA-711E-4A6C-89D5-218EE4A5B7F0}" type="slidenum">
              <a:rPr b="0" lang="sr-Latn-C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ови споразум о капиталу Базел </a:t>
            </a:r>
            <a:r>
              <a:rPr b="0" lang="sr-Latn-CS" sz="4400" spc="-1" strike="noStrike">
                <a:solidFill>
                  <a:srgbClr val="333399"/>
                </a:solidFill>
                <a:latin typeface="Tahoma"/>
              </a:rPr>
              <a:t>I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р Ката Шкарић Јованови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0CC0D-5955-4DCE-B3C9-5EA3912C7760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 истом периоду захтева се повећање чешћа укуног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-а 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   са 4% на 6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о значи да капитал који чин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I може чинити само 2% капит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F005-B7B7-48CF-8B68-D76F2CE9E9A9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II  /допунски капитал II/ који се користи за покриће тржишних ризика је  потпуно укинут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74943-1107-46A7-9115-785EA5BDBC3D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ова категорија капитала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onservation buffer – заштитни  капитал који повећава захтевани минимални капитал за 2,5% common equity nakon умањењ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мењен је  да апсорбује губитке током периода финансијских и економских криз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816B-9617-47F7-9695-F81DDC9F0A64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а категорија капитала треба да буде постепено увођена у периоду од 2016. до 2019. године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 случају да банка током кризног периода користи овај капитал и да се њена рациа капитала приближе захтеваном минимуму, тада се могу поставити значајни захтеви за ограничавање расподеле доби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6B2F-E9E1-4F5D-B75F-68FF39C36EE9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нтициклични капитал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ва категорија капитала није обавезна, али се њено формирање препоручује. Циљ је заштита банкарском сектора у периодима појачаног раста кредит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D9AE-00AF-41AC-9F01-058FFC867E17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хтеви за капитал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182600" y="2017800"/>
          <a:ext cx="7772400" cy="43275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mon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 1 Kapi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купан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.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Заштитни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укуп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Антициклични капита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392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Сви бројеви у процент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A3393-99DC-4582-B07D-29E2F0F542E9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ови захтеви за common equity капитало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728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1187280" y="2421000"/>
            <a:ext cx="0" cy="367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3635280" y="4292640"/>
            <a:ext cx="2737080" cy="14414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on equity tier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Rectangle 12"/>
          <p:cNvSpPr/>
          <p:nvPr/>
        </p:nvSpPr>
        <p:spPr>
          <a:xfrm>
            <a:off x="3635280" y="3716280"/>
            <a:ext cx="2737080" cy="57636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nservation bu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14"/>
          <p:cNvSpPr/>
          <p:nvPr/>
        </p:nvSpPr>
        <p:spPr>
          <a:xfrm>
            <a:off x="3635280" y="3141720"/>
            <a:ext cx="27370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2,5%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Contracyclical buff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ectangle 17"/>
          <p:cNvSpPr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9EA68-613E-41C4-8113-C11813B952CA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ако умањење компоненти које чине капитал мора бити извршено    од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common equity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новног капитала, за разлику од постојећих решења где се бројна умањења врше од укупног капитал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B1F5-A8E4-4C4D-90AC-5365643EA6C0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лагања у финансијске институције, одложена пореска средства из временских разлика 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mortage servicing right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 ограничавај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FACEF-89A6-4F71-9B16-0AE02248B11F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анзициони аранжман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штри захтеви за повећањем common equity капитала и променом структуре укупог капитала ублажени су релативно дугим периодом у коме банке треба да им се прилагоде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ве две године 2011. и 2012. година су предвиђене за припрему за примену наведених захтев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D80E-DBCA-4A79-8B12-7105822CD71F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Задатак Споразума о адекватности капита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езбеђење потребне ликвидности и солвентности бана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чев од 1988. године 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мењен 199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04. усвојен је 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I, примена од у земљама ЕУ од 2007. годин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010. 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II, примена 201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Slide Number Placeholder 6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1B047-0B2F-430B-B981-F968E61A7533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Динамика примене минималних захте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4360" y="2017800"/>
          <a:ext cx="8459640" cy="4746600"/>
        </p:xfrm>
        <a:graphic>
          <a:graphicData uri="http://schemas.openxmlformats.org/drawingml/2006/table">
            <a:tbl>
              <a:tblPr/>
              <a:tblGrid>
                <a:gridCol w="3166920"/>
                <a:gridCol w="720720"/>
                <a:gridCol w="720720"/>
                <a:gridCol w="719280"/>
                <a:gridCol w="792000"/>
                <a:gridCol w="720720"/>
                <a:gridCol w="792360"/>
                <a:gridCol w="8269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п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common equ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Заштитни капитал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nservation buf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,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+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1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3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Постепено умањење common equity Т1 *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 </a:t>
                      </a: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5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 укупног капита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имум укупног капитала+заштитни капита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,6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,8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Инструменти капитала који се више не квалификују за </a:t>
                      </a: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ier 1 или Tier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Отписују се током 10 година почев од 2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цио ликвид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 ста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Рацио дугорочне стабил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Мин стан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21B38-1DEB-4263-AAF7-3433E99CBC13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цио ликвид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Liquidity coverage ratio L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раткорочна ликвидност до 30 дан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полагање износима високо ликвидним средствима довољним за покриће изненадних потреба за ликвидним средствим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ток високо квалитетних ликвидних средстава/нето готовинске одливе&gt;100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12BD2-13ED-4F41-94E3-82CEC52C5139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Рацио дугорочне структурне ликвид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Net stable funding ratio NSF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игурава подударање извода са наменама финансирањ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положиви износ стабилних извора финансирања/потребан износ стабилних извора&gt;100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94483-2714-4500-95F2-89BF8A511263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Левериџ раци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инимални рацио левериџа за капитал првог реда  3%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днос капитала и укупне изложе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ћење примене од јануара 2011, а период паралелне примене 2013-201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DCB52-19BC-4E7C-92DC-B0E75FC7BD3F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спуњење захтева по овом споразуму захтева обезбеђење високих износа додатног дугорочног капитала за европске банке око 1,3 трилиона евр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conomist, May 27,201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CD247-5652-4A9F-B267-E3303E999214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ови споразум о адекватности капитала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I се ослања на искуства стечена у примени досадашња два споразума, нарочито у примени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Базел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II али и на сазнањима проистеклим из глобалне економско финансијске криз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1C765-65B8-4AEC-8706-09BFE565808F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Циљ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 постизање равнотеже између захтева за изградњом и одржавањем стабилних финансијских система, с једне стране и постизања потребног кредитног нивоа, с друге стране и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 свођење на најмању меру ангажовања средстава државе и пореских обвезника за покриће губитака и санацију приватних финансијских институциј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B1DF9-5950-4950-9172-D4D8129B1539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поразум треба да значајно допринесе дугорочној финансијској стабилности и раст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бинација много строжије дефиниције капитала, виших минималних затева и увођење новог заштитног капитала треба да осигура да ће банке бити у далеко већој мери способне да се супротставе  периодима економског и финансијског стреса те да подрже економски раст” Nout Wellink, predsednik Bazelskog komiteta za superviziju banak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C6B9-8B66-4107-87DE-E794317957B3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нструменти за реализацију ових циљев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трожија дефиниција капитала који чини </a:t>
            </a:r>
            <a:r>
              <a:rPr b="0" lang="sr-Latn-CS" sz="3200" spc="-1" strike="noStrike">
                <a:solidFill>
                  <a:srgbClr val="000000"/>
                </a:solidFill>
                <a:latin typeface="Tahoma"/>
              </a:rPr>
              <a:t>Tier I i Tier I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дизање захтева за минимумом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ођење обавезе формирања додатног заштитног капитала 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ођење рациа левериџ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ођење рациа ликвид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B157-6B5F-40BC-A6E9-B5C412CD7152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римен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Земље чланице морају инкорпорирати правила у национално законодавство и регулативо пре 1. јануара 2013. године, када почиње њинова примен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EDA1-5CA7-40F0-B1B1-8FC8AA9024B1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већани капитални захтев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 Базел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III, уместо концепта Co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Tier  1 користи се термин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 common equity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који означава капитал стечен продајом обичних акција и задржану добит, као облик капитала који је најподобнији да апсорбује губитке и задржану добит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ешће овог капитала се повећава  са садашњих 2% на 4,5%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вај захтев треба да буде испуњен почев од 2013. до 2015. годин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5"/>
          <p:cNvSpPr/>
          <p:nvPr/>
        </p:nvSpPr>
        <p:spPr>
          <a:xfrm>
            <a:off x="704232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9842B-3D83-4074-8E07-E852D6657228}" type="slidenum">
              <a:rPr b="0" lang="sr-Latn-C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стали делови капитала у оквиру. </a:t>
            </a:r>
            <a:r>
              <a:rPr b="0" lang="sr-Latn-CS" sz="2800" spc="-1" strike="noStrike">
                <a:solidFill>
                  <a:srgbClr val="000000"/>
                </a:solidFill>
                <a:latin typeface="Tahoma"/>
              </a:rPr>
              <a:t>Tier-а I  могу дакле учествовати само са 1,5% (аdditional going concern capital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Мисли се на друге финансијске инструменте који испуњавају стриктне критеријуме, на пример преференцијалне некумулативне акциј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1:00:07Z</dcterms:created>
  <dc:creator>kata</dc:creator>
  <dc:description/>
  <dc:language>en-US</dc:language>
  <cp:lastModifiedBy>Kata Skaric</cp:lastModifiedBy>
  <dcterms:modified xsi:type="dcterms:W3CDTF">2013-07-06T20:54:31Z</dcterms:modified>
  <cp:revision>7</cp:revision>
  <dc:subject/>
  <dc:title>Нови споразум о капиталу Базел III</dc:title>
</cp:coreProperties>
</file>